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9A07-7E1A-453F-8FE5-8C0D4B026D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E12D-C80E-45F6-B18A-F022F3B5D7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6B0-B99F-4F2D-96EC-8D005572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FB2-F744-4479-9A27-1E9C7281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5DC-190A-4763-8392-47C8A55C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501-7825-4F97-9847-8775241D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723B-9C44-49AB-A710-D6F040EF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2F25-2CC1-4115-AF3E-3D04EF66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2B49-7D69-4F94-8AE0-1B02AB9A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C766-8A7B-4399-93F5-B71058A1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54A0-E5E2-4434-9A35-4D65A72E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ECA0-6779-4493-90DD-DE6B9AD7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0317-8A18-42AD-A380-A4642316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BF8-2805-41DD-9240-D68EAA9C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4CA6-E8C5-460D-B61D-E1D074A0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A0D1-2060-4ED7-AB4F-457736F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C81F-2C2A-40CA-8A30-394EF077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7528-7930-4D6F-93DC-87746C6F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F4C2-1083-4C5A-BE26-1BB74651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9D7A-081F-458F-A9D4-25FF15C4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B82E-CD44-4FFF-8C35-727726F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01C46-D02F-49C4-A949-218CB347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4C2E-9CA8-4932-A4CB-4C443F66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01CA-95B8-4D1A-95E6-5E1B0F3D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3B8-D359-4F36-889B-45BE141B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5774-F136-4552-97D1-757B4014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57C2-C701-42EF-BD72-C9605928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B8CB-FA34-4D10-91FA-2395AA24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11BD-7F1A-409C-9C6C-83CA52C1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C3B3C-0EC6-451B-9864-4235F115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50CA-C9E5-4077-884D-D5827F62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35F33-456A-4948-9CE2-2B71A5C6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61B2C-D2CD-476E-A930-E49D55DD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0A1CA-C717-4C30-B7CD-5C45BD9A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DA05-2464-41E8-BA48-B36CBB72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D0C-ECCA-4B25-B4CB-6BA19184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BB7F3-CFF6-4ED9-8D24-BD3E4E9D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56DC8-7E47-4A14-A36C-BCB30E0A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9D00-24FF-4FA2-9808-69A4FA9B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46D0B-8ABB-41F5-B2ED-907BAEF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0804D-D4DD-4583-A88A-1AF1E9D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3292-4795-4745-8973-7F276B1C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D04B-7845-4FFB-BDA5-3E3A23A0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AA08A-40D8-4479-9FE3-41C93FBF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CB1F-F773-41E3-92B4-5179D2CD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9E823-ABB4-4CE5-8235-AEE15168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5A1-14FA-43E9-8658-4D9AAB0E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17B5B-05AA-40A4-B002-E8B51DC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79ACB-16C5-4B6E-A089-166466EB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1CA35-9D15-44C8-864E-03A28928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8DCF-6011-4B81-AE0A-A773EE87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332D8-70B7-4F28-B435-48B27FFA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E6FF7-9109-461E-BEFB-C8B98A58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5873-0C65-4A6B-B841-5B41EB5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A3433-6FAB-47C3-AEFA-B40C614C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1DDDD-7B7A-4C4E-9888-46CA1CB5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FD19-22DB-46EE-ADCF-A277D9D2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304-475B-405D-A9A2-66AD647D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620F3-4968-41AF-8D81-66A0C2C4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81C-FDF4-4DCF-A53B-D66E0843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CAA-5959-4FA9-AF18-73DF3FF3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310-48EE-486F-8306-AA7869BA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8340-ED9B-44E3-8F1D-E217D4D9795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7E6D-0B18-41B0-AC12-9406EB17B03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0DAA-49E6-46CD-8665-DE2ADFC66D4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7937-3887-42D6-9A8A-51906B05076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8C4E-B3DB-4000-9B82-33316DF31DB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3-4\Последовательность выполнения углов. «лесная поляна»2.jpg"/>
          <p:cNvPicPr/>
          <p:nvPr/>
        </p:nvPicPr>
        <p:blipFill>
          <a:blip r:embed="rId1"/>
          <a:stretch/>
        </p:blipFill>
        <p:spPr>
          <a:xfrm>
            <a:off x="2340000" y="1114560"/>
            <a:ext cx="41814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1T16:34:14Z</dcterms:modified>
  <cp:revision>33</cp:revision>
  <dc:subject/>
  <dc:title>ТВОРЧЕСКАЯ ДЕЯТЕЛЬНОСТЬ: ЗНАКОМСТВО С ТЕХНИКОЙ ИЗОНИТЬ</dc:title>
</cp:coreProperties>
</file>